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5C1-9E1F-4E86-A4E7-D61DBFEAB2B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F99A-A715-4E16-BC15-76F578967460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43F1-E515-4565-A6FC-776C1AD5CEA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B1D-FDC5-4815-8546-6831226C145A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00DC6-40A7-401E-9D2D-F8BF3A5DA0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5E3-CD17-40C0-B012-AF845A679D79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07A17-195C-405E-89F1-BB814F87B7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872-8A44-46C4-99D4-00AFB3B91D13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92411-EDBF-4CAD-9A62-EEA6D4E20F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CFC-F119-42E7-8C26-DAA4ED4A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7FA-DB4E-4D67-ACCD-3255065C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C56-899D-488C-BD47-3DD671F8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7CD-2BFA-4FE2-A234-7FD18326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003-8140-4058-A0E4-CE42D359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1E2-4837-4CD5-8FB3-206D3A18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5E0-F785-4380-A724-0A8BDFF6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C65-5110-43D6-9DF8-B3813F1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7CB-AEFB-4A59-9F66-433470AD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28C-AA7D-492F-A659-D027E92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03E-C9DE-4B27-BE86-EB734E6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A4D-7300-47C9-8B50-918E1CF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D203-3211-4F52-9F10-312286EB3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&#26893;&#29289;&#22920;&#22920;&#26377;&#21150;&#27861;1.ppt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s://f11.baidu.com/it/u=2709340991,798240624&amp;fm=72"/>
          <p:cNvPicPr/>
          <p:nvPr/>
        </p:nvPicPr>
        <p:blipFill>
          <a:blip r:embed="rId1"/>
          <a:stretch/>
        </p:blipFill>
        <p:spPr>
          <a:xfrm>
            <a:off x="2195640" y="922320"/>
            <a:ext cx="44244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ss1.bdstatic.com/70cFvXSh_Q1YnxGkpoWK1HF6hhy/it/u=2498286474,2213174297&amp;fm=27&amp;gp=0.jpg"/>
          <p:cNvPicPr/>
          <p:nvPr/>
        </p:nvPicPr>
        <p:blipFill>
          <a:blip r:embed="rId2"/>
          <a:stretch/>
        </p:blipFill>
        <p:spPr>
          <a:xfrm>
            <a:off x="1763640" y="1811160"/>
            <a:ext cx="4156200" cy="3464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s://ss0.bdstatic.com/70cFvHSh_Q1YnxGkpoWK1HF6hhy/it/u=2862720439,2288258055&amp;fm=11&amp;gp=0.jpg"/>
          <p:cNvPicPr/>
          <p:nvPr/>
        </p:nvPicPr>
        <p:blipFill>
          <a:blip r:embed="rId3"/>
          <a:stretch/>
        </p:blipFill>
        <p:spPr>
          <a:xfrm>
            <a:off x="3348000" y="62064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ss1.bdstatic.com/70cFvXSh_Q1YnxGkpoWK1HF6hhy/it/u=206484551,1731253730&amp;fm=27&amp;gp=0.jpg"/>
          <p:cNvPicPr/>
          <p:nvPr/>
        </p:nvPicPr>
        <p:blipFill>
          <a:blip r:embed="rId4"/>
          <a:stretch/>
        </p:blipFill>
        <p:spPr>
          <a:xfrm>
            <a:off x="2587680" y="1341360"/>
            <a:ext cx="519732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73040" y="527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什么样的办法去旅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纷纷出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2142000" y="27147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76080" y="38577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们 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4"/>
          <p:cNvSpPr/>
          <p:nvPr/>
        </p:nvSpPr>
        <p:spPr>
          <a:xfrm flipH="1">
            <a:off x="3071520" y="3000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30"/>
          <p:cNvSpPr/>
          <p:nvPr/>
        </p:nvSpPr>
        <p:spPr>
          <a:xfrm flipH="1">
            <a:off x="471456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31"/>
          <p:cNvSpPr/>
          <p:nvPr/>
        </p:nvSpPr>
        <p:spPr>
          <a:xfrm flipH="1">
            <a:off x="314280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让豆荚 晒在 太阳底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1592280" y="2786040"/>
            <a:ext cx="698040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孩子们 就蹦着跳着 离开妈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0"/>
          <p:cNvSpPr/>
          <p:nvPr/>
        </p:nvSpPr>
        <p:spPr>
          <a:xfrm flipH="1">
            <a:off x="378576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1"/>
          <p:cNvSpPr/>
          <p:nvPr/>
        </p:nvSpPr>
        <p:spPr>
          <a:xfrm flipH="1">
            <a:off x="507168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2"/>
          <p:cNvSpPr/>
          <p:nvPr/>
        </p:nvSpPr>
        <p:spPr>
          <a:xfrm flipH="1">
            <a:off x="6071760" y="3214800"/>
            <a:ext cx="142920" cy="4284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3214440" y="314316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爱的谐奏曲.mp3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87440" y="260280"/>
            <a:ext cx="79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d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告别妈妈，四海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w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93680" y="906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67360" y="8049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3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76720" y="2205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ě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635280" y="328464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35280" y="4437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0" y="2205000"/>
            <a:ext cx="357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就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16360" y="3429000"/>
            <a:ext cx="32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得到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00720" y="45086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跑得快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692360" y="2852280"/>
            <a:ext cx="14396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76364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692360" y="386064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99640" y="2133360"/>
            <a:ext cx="7489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高兴（得）跳了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到了这个苹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好好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1773360"/>
            <a:ext cx="459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24000" y="47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ě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492360" y="5176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61080" y="517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574 L -0.137847 0.164074 E">
                                      <p:cBhvr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346481 E">
                                      <p:cBhvr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9375 0.5775 E">
                                      <p:cBhvr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2720" y="2925720"/>
            <a:ext cx="53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4000" y="981000"/>
            <a:ext cx="14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484360" y="18900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海为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484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为了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1332000" y="62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332000" y="155736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0920" y="42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海为家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植物的种子传播到哪里，就在哪里生根、发芽、开花、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328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“四海为家”是什么意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爱的谐奏曲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14240" y="521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14760" y="5143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i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610160" y="5143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vi-VN" sz="2400" spc="-1" strike="noStrike">
                <a:solidFill>
                  <a:srgbClr val="3333cc"/>
                </a:solidFill>
                <a:latin typeface="Times New Roman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39160" y="5643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  家   法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43760" y="55008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押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3071880" y="0"/>
            <a:ext cx="285732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找一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000080" y="1857240"/>
            <a:ext cx="72151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用横线圈出第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到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段押韵的字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176" name="Picture 3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395280" y="1110960"/>
            <a:ext cx="8748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纷纷出发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5357880" y="2571840"/>
            <a:ext cx="1143000" cy="10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5429160" y="2500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6572160" y="4786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7280" y="995400"/>
            <a:ext cx="80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呀飞呀，飞呀飞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....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到了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飞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娃娃飞到了（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52760" y="27208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四海为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8160" y="475308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动物又是怎么去旅行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001sUcoEzy6S2FuFu5wc6&amp;690"/>
          <p:cNvPicPr/>
          <p:nvPr/>
        </p:nvPicPr>
        <p:blipFill>
          <a:blip r:embed="rId1"/>
          <a:stretch/>
        </p:blipFill>
        <p:spPr>
          <a:xfrm>
            <a:off x="685800" y="1643040"/>
            <a:ext cx="301140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37d3d539b6003af33936a75a3e2ac65c1038b67f"/>
          <p:cNvPicPr/>
          <p:nvPr/>
        </p:nvPicPr>
        <p:blipFill>
          <a:blip r:embed="rId2"/>
          <a:stretch/>
        </p:blipFill>
        <p:spPr>
          <a:xfrm>
            <a:off x="4984920" y="1627200"/>
            <a:ext cx="3473280" cy="3560760"/>
          </a:xfrm>
          <a:prstGeom prst="rect">
            <a:avLst/>
          </a:prstGeom>
          <a:ln w="0">
            <a:noFill/>
          </a:ln>
        </p:spPr>
      </p:pic>
      <p:sp>
        <p:nvSpPr>
          <p:cNvPr id="61" name="标题 1"/>
          <p:cNvSpPr/>
          <p:nvPr/>
        </p:nvSpPr>
        <p:spPr>
          <a:xfrm>
            <a:off x="568440" y="550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马有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鸟有翅膀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66680" y="306360"/>
            <a:ext cx="708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孩子穿上带刺的铠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">
            <a:hlinkClick r:id="rId1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1"/>
          <p:cNvPicPr/>
          <p:nvPr/>
        </p:nvPicPr>
        <p:blipFill>
          <a:blip r:embed="rId2"/>
          <a:stretch/>
        </p:blipFill>
        <p:spPr>
          <a:xfrm>
            <a:off x="971640" y="3124080"/>
            <a:ext cx="6769080" cy="361800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478620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715000" y="928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5715000" y="22860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328680"/>
            <a:ext cx="7418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豆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在太阳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底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炸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离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2"/>
          <p:cNvPicPr/>
          <p:nvPr/>
        </p:nvPicPr>
        <p:blipFill>
          <a:blip r:embed="rId1"/>
          <a:stretch/>
        </p:blipFill>
        <p:spPr>
          <a:xfrm>
            <a:off x="826920" y="3500280"/>
            <a:ext cx="6624720" cy="3654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828720" y="302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1800" y="162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08360" y="2421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14324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5072040" y="107172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5500800" y="271476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203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椭圆 11"/>
          <p:cNvSpPr/>
          <p:nvPr/>
        </p:nvSpPr>
        <p:spPr>
          <a:xfrm>
            <a:off x="5143680" y="2071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6858000" y="378612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1"/>
          <p:cNvSpPr/>
          <p:nvPr/>
        </p:nvSpPr>
        <p:spPr>
          <a:xfrm>
            <a:off x="5716440" y="2197080"/>
            <a:ext cx="500040" cy="900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撇要写得舒展，左边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求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了这道题的做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1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任意多边形 22"/>
          <p:cNvSpPr/>
          <p:nvPr/>
        </p:nvSpPr>
        <p:spPr>
          <a:xfrm>
            <a:off x="5919840" y="2637000"/>
            <a:ext cx="584280" cy="24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任意多边形 23"/>
          <p:cNvSpPr/>
          <p:nvPr/>
        </p:nvSpPr>
        <p:spPr>
          <a:xfrm>
            <a:off x="5491080" y="3097080"/>
            <a:ext cx="1022400" cy="34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任意多边形 24"/>
          <p:cNvSpPr/>
          <p:nvPr/>
        </p:nvSpPr>
        <p:spPr>
          <a:xfrm>
            <a:off x="6186600" y="3465360"/>
            <a:ext cx="317520" cy="428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任意多边形 25"/>
          <p:cNvSpPr/>
          <p:nvPr/>
        </p:nvSpPr>
        <p:spPr>
          <a:xfrm>
            <a:off x="6543720" y="2943360"/>
            <a:ext cx="174600" cy="961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任意多边形 26"/>
          <p:cNvSpPr/>
          <p:nvPr/>
        </p:nvSpPr>
        <p:spPr>
          <a:xfrm>
            <a:off x="6595920" y="2841480"/>
            <a:ext cx="735120" cy="746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任意多边形 27"/>
          <p:cNvSpPr/>
          <p:nvPr/>
        </p:nvSpPr>
        <p:spPr>
          <a:xfrm>
            <a:off x="6676920" y="3516480"/>
            <a:ext cx="5731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28"/>
          <p:cNvSpPr/>
          <p:nvPr/>
        </p:nvSpPr>
        <p:spPr>
          <a:xfrm>
            <a:off x="5592600" y="2790720"/>
            <a:ext cx="6238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要写得小些，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857160" y="494352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读书可以增长知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30"/>
          <p:cNvSpPr/>
          <p:nvPr/>
        </p:nvSpPr>
        <p:spPr>
          <a:xfrm>
            <a:off x="2143080" y="26532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矩形 43"/>
          <p:cNvSpPr/>
          <p:nvPr/>
        </p:nvSpPr>
        <p:spPr>
          <a:xfrm>
            <a:off x="3347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任意多边形 44"/>
          <p:cNvSpPr/>
          <p:nvPr/>
        </p:nvSpPr>
        <p:spPr>
          <a:xfrm>
            <a:off x="5413320" y="2909880"/>
            <a:ext cx="746280" cy="119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任意多边形 45"/>
          <p:cNvSpPr/>
          <p:nvPr/>
        </p:nvSpPr>
        <p:spPr>
          <a:xfrm>
            <a:off x="5802480" y="2297160"/>
            <a:ext cx="315720" cy="27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任意多边形 46"/>
          <p:cNvSpPr/>
          <p:nvPr/>
        </p:nvSpPr>
        <p:spPr>
          <a:xfrm>
            <a:off x="6272280" y="2573280"/>
            <a:ext cx="183960" cy="73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任意多边形 47"/>
          <p:cNvSpPr/>
          <p:nvPr/>
        </p:nvSpPr>
        <p:spPr>
          <a:xfrm>
            <a:off x="6364440" y="2449440"/>
            <a:ext cx="72540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任意多边形 48"/>
          <p:cNvSpPr/>
          <p:nvPr/>
        </p:nvSpPr>
        <p:spPr>
          <a:xfrm>
            <a:off x="6424560" y="3052800"/>
            <a:ext cx="531720" cy="174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任意多边形 49"/>
          <p:cNvSpPr/>
          <p:nvPr/>
        </p:nvSpPr>
        <p:spPr>
          <a:xfrm>
            <a:off x="6037200" y="3430440"/>
            <a:ext cx="52092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任意多边形 50"/>
          <p:cNvSpPr/>
          <p:nvPr/>
        </p:nvSpPr>
        <p:spPr>
          <a:xfrm>
            <a:off x="6772320" y="3471840"/>
            <a:ext cx="460440" cy="593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法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ǎ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2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左边最后一笔是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3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法  用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5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想出了一个好办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58"/>
          <p:cNvSpPr/>
          <p:nvPr/>
        </p:nvSpPr>
        <p:spPr>
          <a:xfrm>
            <a:off x="5562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任意多边形 59"/>
          <p:cNvSpPr/>
          <p:nvPr/>
        </p:nvSpPr>
        <p:spPr>
          <a:xfrm>
            <a:off x="5746680" y="2398680"/>
            <a:ext cx="297000" cy="317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任意多边形 60"/>
          <p:cNvSpPr/>
          <p:nvPr/>
        </p:nvSpPr>
        <p:spPr>
          <a:xfrm>
            <a:off x="6156360" y="2644920"/>
            <a:ext cx="838080" cy="264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任意多边形 61"/>
          <p:cNvSpPr/>
          <p:nvPr/>
        </p:nvSpPr>
        <p:spPr>
          <a:xfrm>
            <a:off x="6431040" y="2143080"/>
            <a:ext cx="204840" cy="11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任意多边形 62"/>
          <p:cNvSpPr/>
          <p:nvPr/>
        </p:nvSpPr>
        <p:spPr>
          <a:xfrm>
            <a:off x="6002280" y="3063960"/>
            <a:ext cx="1338480" cy="326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任意多边形 63"/>
          <p:cNvSpPr/>
          <p:nvPr/>
        </p:nvSpPr>
        <p:spPr>
          <a:xfrm>
            <a:off x="6064200" y="3278160"/>
            <a:ext cx="838080" cy="79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任意多边形 64"/>
          <p:cNvSpPr/>
          <p:nvPr/>
        </p:nvSpPr>
        <p:spPr>
          <a:xfrm>
            <a:off x="6718320" y="3503520"/>
            <a:ext cx="368280" cy="550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任意多边形 65"/>
          <p:cNvSpPr/>
          <p:nvPr/>
        </p:nvSpPr>
        <p:spPr>
          <a:xfrm>
            <a:off x="5562720" y="2859120"/>
            <a:ext cx="24444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任意多边形 66"/>
          <p:cNvSpPr/>
          <p:nvPr/>
        </p:nvSpPr>
        <p:spPr>
          <a:xfrm>
            <a:off x="5583240" y="3165480"/>
            <a:ext cx="407880" cy="88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撇点，口要写得小一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  假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明天不下雨，我们就去图书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矩形 44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45"/>
          <p:cNvSpPr/>
          <p:nvPr/>
        </p:nvSpPr>
        <p:spPr>
          <a:xfrm>
            <a:off x="5938920" y="2249640"/>
            <a:ext cx="531720" cy="1777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任意多边形 46"/>
          <p:cNvSpPr/>
          <p:nvPr/>
        </p:nvSpPr>
        <p:spPr>
          <a:xfrm>
            <a:off x="5468760" y="2984400"/>
            <a:ext cx="9306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任意多边形 47"/>
          <p:cNvSpPr/>
          <p:nvPr/>
        </p:nvSpPr>
        <p:spPr>
          <a:xfrm>
            <a:off x="5653080" y="2790720"/>
            <a:ext cx="8380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48"/>
          <p:cNvSpPr/>
          <p:nvPr/>
        </p:nvSpPr>
        <p:spPr>
          <a:xfrm>
            <a:off x="6572160" y="3005280"/>
            <a:ext cx="184320" cy="807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任意多边形 49"/>
          <p:cNvSpPr/>
          <p:nvPr/>
        </p:nvSpPr>
        <p:spPr>
          <a:xfrm>
            <a:off x="6643800" y="2903400"/>
            <a:ext cx="715680" cy="684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任意多边形 50"/>
          <p:cNvSpPr/>
          <p:nvPr/>
        </p:nvSpPr>
        <p:spPr>
          <a:xfrm>
            <a:off x="6716880" y="3516480"/>
            <a:ext cx="54108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的最后一笔横，不要写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们   她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40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俩是好朋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43"/>
          <p:cNvSpPr/>
          <p:nvPr/>
        </p:nvSpPr>
        <p:spPr>
          <a:xfrm>
            <a:off x="349200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任意多边形 44"/>
          <p:cNvSpPr/>
          <p:nvPr/>
        </p:nvSpPr>
        <p:spPr>
          <a:xfrm>
            <a:off x="6191280" y="2716200"/>
            <a:ext cx="950760" cy="827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45"/>
          <p:cNvSpPr/>
          <p:nvPr/>
        </p:nvSpPr>
        <p:spPr>
          <a:xfrm>
            <a:off x="6375240" y="2746440"/>
            <a:ext cx="992520" cy="1266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任意多边形 46"/>
          <p:cNvSpPr/>
          <p:nvPr/>
        </p:nvSpPr>
        <p:spPr>
          <a:xfrm>
            <a:off x="6610320" y="2216160"/>
            <a:ext cx="163440" cy="1388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任意多边形 47"/>
          <p:cNvSpPr/>
          <p:nvPr/>
        </p:nvSpPr>
        <p:spPr>
          <a:xfrm>
            <a:off x="5843520" y="2276640"/>
            <a:ext cx="379440" cy="168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任意多边形 48"/>
          <p:cNvSpPr/>
          <p:nvPr/>
        </p:nvSpPr>
        <p:spPr>
          <a:xfrm>
            <a:off x="5578560" y="2879640"/>
            <a:ext cx="695160" cy="11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任意多边形 49"/>
          <p:cNvSpPr/>
          <p:nvPr/>
        </p:nvSpPr>
        <p:spPr>
          <a:xfrm>
            <a:off x="5486400" y="3052800"/>
            <a:ext cx="69516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124128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作为偏旁要写得窄些，最后一横比上面一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娃娃  女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有一个可爱的布娃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44"/>
          <p:cNvSpPr/>
          <p:nvPr/>
        </p:nvSpPr>
        <p:spPr>
          <a:xfrm>
            <a:off x="543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任意多边形 45"/>
          <p:cNvSpPr/>
          <p:nvPr/>
        </p:nvSpPr>
        <p:spPr>
          <a:xfrm>
            <a:off x="6365880" y="2604960"/>
            <a:ext cx="612720" cy="225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任意多边形 46"/>
          <p:cNvSpPr/>
          <p:nvPr/>
        </p:nvSpPr>
        <p:spPr>
          <a:xfrm>
            <a:off x="6356520" y="3443400"/>
            <a:ext cx="6127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任意多边形 47"/>
          <p:cNvSpPr/>
          <p:nvPr/>
        </p:nvSpPr>
        <p:spPr>
          <a:xfrm>
            <a:off x="5792760" y="2308320"/>
            <a:ext cx="398520" cy="1604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任意多边形 48"/>
          <p:cNvSpPr/>
          <p:nvPr/>
        </p:nvSpPr>
        <p:spPr>
          <a:xfrm>
            <a:off x="5445000" y="3044880"/>
            <a:ext cx="706680" cy="255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任意多边形 49"/>
          <p:cNvSpPr/>
          <p:nvPr/>
        </p:nvSpPr>
        <p:spPr>
          <a:xfrm>
            <a:off x="5548320" y="2789280"/>
            <a:ext cx="716040" cy="124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任意多边形 50"/>
          <p:cNvSpPr/>
          <p:nvPr/>
        </p:nvSpPr>
        <p:spPr>
          <a:xfrm>
            <a:off x="6580080" y="3197160"/>
            <a:ext cx="163800" cy="727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任意多边形 51"/>
          <p:cNvSpPr/>
          <p:nvPr/>
        </p:nvSpPr>
        <p:spPr>
          <a:xfrm>
            <a:off x="6161040" y="3821040"/>
            <a:ext cx="1093680" cy="235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任意多边形 52"/>
          <p:cNvSpPr/>
          <p:nvPr/>
        </p:nvSpPr>
        <p:spPr>
          <a:xfrm>
            <a:off x="6550200" y="2124000"/>
            <a:ext cx="183960" cy="101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任意多边形 53"/>
          <p:cNvSpPr/>
          <p:nvPr/>
        </p:nvSpPr>
        <p:spPr>
          <a:xfrm>
            <a:off x="6264360" y="3003480"/>
            <a:ext cx="879480" cy="244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377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 txBox="1"/>
          <p:nvPr/>
        </p:nvSpPr>
        <p:spPr>
          <a:xfrm>
            <a:off x="2143080" y="231444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图片2"/>
          <p:cNvPicPr/>
          <p:nvPr/>
        </p:nvPicPr>
        <p:blipFill>
          <a:blip r:embed="rId1"/>
          <a:stretch/>
        </p:blipFill>
        <p:spPr>
          <a:xfrm>
            <a:off x="95400" y="285840"/>
            <a:ext cx="327960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图片1"/>
          <p:cNvPicPr/>
          <p:nvPr/>
        </p:nvPicPr>
        <p:blipFill>
          <a:blip r:embed="rId2"/>
          <a:stretch/>
        </p:blipFill>
        <p:spPr>
          <a:xfrm>
            <a:off x="2610000" y="3133800"/>
            <a:ext cx="344484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"/>
          <p:cNvPicPr/>
          <p:nvPr/>
        </p:nvPicPr>
        <p:blipFill>
          <a:blip r:embed="rId3"/>
          <a:stretch/>
        </p:blipFill>
        <p:spPr>
          <a:xfrm>
            <a:off x="4486320" y="3373560"/>
            <a:ext cx="171360" cy="11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"/>
          <p:cNvPicPr/>
          <p:nvPr/>
        </p:nvPicPr>
        <p:blipFill>
          <a:blip r:embed="rId4"/>
          <a:stretch/>
        </p:blipFill>
        <p:spPr>
          <a:xfrm>
            <a:off x="5334120" y="45864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2"/>
          <p:cNvGrpSpPr/>
          <p:nvPr/>
        </p:nvGrpSpPr>
        <p:grpSpPr>
          <a:xfrm>
            <a:off x="3071880" y="714240"/>
            <a:ext cx="2905200" cy="666720"/>
            <a:chOff x="3071880" y="714240"/>
            <a:chExt cx="2905200" cy="666720"/>
          </a:xfrm>
        </p:grpSpPr>
        <p:sp>
          <p:nvSpPr>
            <p:cNvPr id="382" name="圆角矩形 5"/>
            <p:cNvSpPr/>
            <p:nvPr/>
          </p:nvSpPr>
          <p:spPr>
            <a:xfrm>
              <a:off x="3887640" y="852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71880" y="714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6"/>
            <p:cNvSpPr/>
            <p:nvPr/>
          </p:nvSpPr>
          <p:spPr>
            <a:xfrm>
              <a:off x="4147200" y="871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复习字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87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1_110316091258_1[1]"/>
          <p:cNvPicPr/>
          <p:nvPr/>
        </p:nvPicPr>
        <p:blipFill>
          <a:blip r:embed="rId1"/>
          <a:stretch/>
        </p:blipFill>
        <p:spPr>
          <a:xfrm>
            <a:off x="0" y="1357200"/>
            <a:ext cx="2786040" cy="2327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357120" y="3929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公英妈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get (34)"/>
          <p:cNvPicPr/>
          <p:nvPr/>
        </p:nvPicPr>
        <p:blipFill>
          <a:blip r:embed="rId2"/>
          <a:stretch/>
        </p:blipFill>
        <p:spPr>
          <a:xfrm>
            <a:off x="3214800" y="142884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3714840" y="4071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耳妈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get (33)"/>
          <p:cNvPicPr/>
          <p:nvPr/>
        </p:nvPicPr>
        <p:blipFill>
          <a:blip r:embed="rId3"/>
          <a:stretch/>
        </p:blipFill>
        <p:spPr>
          <a:xfrm>
            <a:off x="6429240" y="1357200"/>
            <a:ext cx="2071800" cy="2286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6286680" y="400068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妈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384200" y="528624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找一找，课文里面有那三位植物妈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1_110316091258_1[1]"/>
          <p:cNvPicPr/>
          <p:nvPr/>
        </p:nvPicPr>
        <p:blipFill>
          <a:blip r:embed="rId1"/>
          <a:stretch/>
        </p:blipFill>
        <p:spPr>
          <a:xfrm>
            <a:off x="1071720" y="928800"/>
            <a:ext cx="1285560" cy="107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92880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get (34)"/>
          <p:cNvPicPr/>
          <p:nvPr/>
        </p:nvPicPr>
        <p:blipFill>
          <a:blip r:embed="rId2"/>
          <a:stretch/>
        </p:blipFill>
        <p:spPr>
          <a:xfrm>
            <a:off x="3500280" y="1000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3571920" y="22147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苍耳妈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get (33)"/>
          <p:cNvPicPr/>
          <p:nvPr/>
        </p:nvPicPr>
        <p:blipFill>
          <a:blip r:embed="rId3"/>
          <a:stretch/>
        </p:blipFill>
        <p:spPr>
          <a:xfrm>
            <a:off x="6143760" y="392904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6215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豌豆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027080" y="7128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三位植物妈妈的宝宝藏在哪里？课文中怎么说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92880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降落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35772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带刺的铠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650088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豆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下箭头 11"/>
          <p:cNvSpPr/>
          <p:nvPr/>
        </p:nvSpPr>
        <p:spPr>
          <a:xfrm>
            <a:off x="1357200" y="2643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下箭头 12"/>
          <p:cNvSpPr/>
          <p:nvPr/>
        </p:nvSpPr>
        <p:spPr>
          <a:xfrm>
            <a:off x="4071960" y="2714760"/>
            <a:ext cx="21420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下箭头 13"/>
          <p:cNvSpPr/>
          <p:nvPr/>
        </p:nvSpPr>
        <p:spPr>
          <a:xfrm>
            <a:off x="6858000" y="2714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143000" y="5572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64320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动物皮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00880" y="5477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太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降落伞"/>
          <p:cNvPicPr/>
          <p:nvPr/>
        </p:nvPicPr>
        <p:blipFill>
          <a:blip r:embed="rId4"/>
          <a:srcRect l="0" t="0" r="0" b="11146"/>
          <a:stretch/>
        </p:blipFill>
        <p:spPr>
          <a:xfrm>
            <a:off x="1071720" y="41432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11042421236fde27447b68f4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4000680"/>
            <a:ext cx="1287720" cy="1214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2"/>
          <p:cNvPicPr/>
          <p:nvPr/>
        </p:nvPicPr>
        <p:blipFill>
          <a:blip r:embed="rId7"/>
          <a:stretch/>
        </p:blipFill>
        <p:spPr>
          <a:xfrm>
            <a:off x="6215040" y="1071720"/>
            <a:ext cx="1214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许许多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粗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418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iushu"/>
          <p:cNvPicPr/>
          <p:nvPr/>
        </p:nvPicPr>
        <p:blipFill>
          <a:blip r:embed="rId1"/>
          <a:srcRect l="0" t="0" r="16144" b="45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24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柳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办法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请风婆婆来帮忙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孩子随风飘一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处处都能把家安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yeshu"/>
          <p:cNvPicPr/>
          <p:nvPr/>
        </p:nvPicPr>
        <p:blipFill>
          <a:blip r:embed="rId1"/>
          <a:srcRect l="0" t="0" r="11604" b="47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0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椰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子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的办法真奇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邀请海水来帮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让宝宝高高兴兴去远航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shil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6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石榴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胆子挺大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不怕小鸟吃掉娃娃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娃娃在鸟肚子里睡上一觉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会钻出来落户安家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900000" y="669600"/>
            <a:ext cx="7788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植物和动物旅行靠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他们用线连起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苍耳      马        蒲公英        鸟        豌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翅膀        脚        太阳晒        风   动物皮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2987640" y="3213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2195640" y="3213000"/>
            <a:ext cx="518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1979280" y="3141720"/>
            <a:ext cx="410508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 flipH="1">
            <a:off x="5003280" y="3141720"/>
            <a:ext cx="2305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5292720" y="3284640"/>
            <a:ext cx="93492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更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241280" y="2027160"/>
            <a:ext cx="11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è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4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要写得扁平，捺要写得舒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有  更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明天会更加美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349200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任意多边形 21"/>
          <p:cNvSpPr/>
          <p:nvPr/>
        </p:nvSpPr>
        <p:spPr>
          <a:xfrm>
            <a:off x="6018120" y="2235240"/>
            <a:ext cx="817560" cy="223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任意多边形 22"/>
          <p:cNvSpPr/>
          <p:nvPr/>
        </p:nvSpPr>
        <p:spPr>
          <a:xfrm>
            <a:off x="5854680" y="2724120"/>
            <a:ext cx="244440" cy="650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任意多边形 23"/>
          <p:cNvSpPr/>
          <p:nvPr/>
        </p:nvSpPr>
        <p:spPr>
          <a:xfrm>
            <a:off x="5956200" y="2581200"/>
            <a:ext cx="1032120" cy="74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任意多边形 24"/>
          <p:cNvSpPr/>
          <p:nvPr/>
        </p:nvSpPr>
        <p:spPr>
          <a:xfrm>
            <a:off x="6140520" y="2906640"/>
            <a:ext cx="501480" cy="142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任意多边形 25"/>
          <p:cNvSpPr/>
          <p:nvPr/>
        </p:nvSpPr>
        <p:spPr>
          <a:xfrm>
            <a:off x="6078600" y="3201840"/>
            <a:ext cx="64440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任意多边形 26"/>
          <p:cNvSpPr/>
          <p:nvPr/>
        </p:nvSpPr>
        <p:spPr>
          <a:xfrm>
            <a:off x="5546880" y="2367000"/>
            <a:ext cx="920520" cy="166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任意多边形 27"/>
          <p:cNvSpPr/>
          <p:nvPr/>
        </p:nvSpPr>
        <p:spPr>
          <a:xfrm>
            <a:off x="5751360" y="3354480"/>
            <a:ext cx="1616400" cy="78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8240" y="195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妈妈有办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571680" y="205272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0880" y="12826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h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3"/>
          <p:cNvSpPr/>
          <p:nvPr/>
        </p:nvSpPr>
        <p:spPr>
          <a:xfrm>
            <a:off x="6076800" y="2265480"/>
            <a:ext cx="306360" cy="285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7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Box 4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右点，第二笔是左点，第三笔是横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  它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它们是一群可爱的小鸭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53"/>
          <p:cNvSpPr/>
          <p:nvPr/>
        </p:nvSpPr>
        <p:spPr>
          <a:xfrm>
            <a:off x="3203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任意多边形 54"/>
          <p:cNvSpPr/>
          <p:nvPr/>
        </p:nvSpPr>
        <p:spPr>
          <a:xfrm>
            <a:off x="5473800" y="2581200"/>
            <a:ext cx="22356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任意多边形 55"/>
          <p:cNvSpPr/>
          <p:nvPr/>
        </p:nvSpPr>
        <p:spPr>
          <a:xfrm>
            <a:off x="5646600" y="2530440"/>
            <a:ext cx="1441440" cy="335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任意多边形 56"/>
          <p:cNvSpPr/>
          <p:nvPr/>
        </p:nvSpPr>
        <p:spPr>
          <a:xfrm>
            <a:off x="5973840" y="3008160"/>
            <a:ext cx="73656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任意多边形 57"/>
          <p:cNvSpPr/>
          <p:nvPr/>
        </p:nvSpPr>
        <p:spPr>
          <a:xfrm>
            <a:off x="5861160" y="2936880"/>
            <a:ext cx="1104840" cy="101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31"/>
          <p:cNvSpPr/>
          <p:nvPr/>
        </p:nvSpPr>
        <p:spPr>
          <a:xfrm>
            <a:off x="131292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Box 43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笔横要比第二横长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毛  羽毛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雀的羽毛非常漂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49"/>
          <p:cNvSpPr/>
          <p:nvPr/>
        </p:nvSpPr>
        <p:spPr>
          <a:xfrm>
            <a:off x="549072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任意多边形 50"/>
          <p:cNvSpPr/>
          <p:nvPr/>
        </p:nvSpPr>
        <p:spPr>
          <a:xfrm>
            <a:off x="5848200" y="2214720"/>
            <a:ext cx="777960" cy="458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任意多边形 51"/>
          <p:cNvSpPr/>
          <p:nvPr/>
        </p:nvSpPr>
        <p:spPr>
          <a:xfrm>
            <a:off x="5827680" y="2784600"/>
            <a:ext cx="828720" cy="295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任意多边形 52"/>
          <p:cNvSpPr/>
          <p:nvPr/>
        </p:nvSpPr>
        <p:spPr>
          <a:xfrm>
            <a:off x="5500800" y="3181320"/>
            <a:ext cx="129852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任意多边形 53"/>
          <p:cNvSpPr/>
          <p:nvPr/>
        </p:nvSpPr>
        <p:spPr>
          <a:xfrm>
            <a:off x="6124680" y="2581200"/>
            <a:ext cx="1217520" cy="1424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26"/>
          <p:cNvSpPr/>
          <p:nvPr/>
        </p:nvSpPr>
        <p:spPr>
          <a:xfrm>
            <a:off x="6835680" y="2754360"/>
            <a:ext cx="501840" cy="671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28"/>
          <p:cNvSpPr/>
          <p:nvPr/>
        </p:nvSpPr>
        <p:spPr>
          <a:xfrm>
            <a:off x="1241280" y="2027160"/>
            <a:ext cx="11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5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Box 40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作为偏旁要写得窄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4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42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脚步  山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43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迈着轻快的脚步去上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46"/>
          <p:cNvSpPr/>
          <p:nvPr/>
        </p:nvSpPr>
        <p:spPr>
          <a:xfrm>
            <a:off x="5363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任意多边形 47"/>
          <p:cNvSpPr/>
          <p:nvPr/>
        </p:nvSpPr>
        <p:spPr>
          <a:xfrm>
            <a:off x="5373720" y="2500200"/>
            <a:ext cx="347760" cy="1352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任意多边形 48"/>
          <p:cNvSpPr/>
          <p:nvPr/>
        </p:nvSpPr>
        <p:spPr>
          <a:xfrm>
            <a:off x="5640480" y="2438280"/>
            <a:ext cx="460440" cy="1486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任意多边形 49"/>
          <p:cNvSpPr/>
          <p:nvPr/>
        </p:nvSpPr>
        <p:spPr>
          <a:xfrm>
            <a:off x="5661000" y="2855880"/>
            <a:ext cx="214200" cy="71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任意多边形 50"/>
          <p:cNvSpPr/>
          <p:nvPr/>
        </p:nvSpPr>
        <p:spPr>
          <a:xfrm>
            <a:off x="5640480" y="3192480"/>
            <a:ext cx="244440" cy="90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任意多边形 51"/>
          <p:cNvSpPr/>
          <p:nvPr/>
        </p:nvSpPr>
        <p:spPr>
          <a:xfrm>
            <a:off x="6151680" y="2673360"/>
            <a:ext cx="57132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任意多边形 52"/>
          <p:cNvSpPr/>
          <p:nvPr/>
        </p:nvSpPr>
        <p:spPr>
          <a:xfrm>
            <a:off x="6324480" y="2205000"/>
            <a:ext cx="204840" cy="84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任意多边形 53"/>
          <p:cNvSpPr/>
          <p:nvPr/>
        </p:nvSpPr>
        <p:spPr>
          <a:xfrm>
            <a:off x="5967360" y="2967120"/>
            <a:ext cx="81756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任意多边形 54"/>
          <p:cNvSpPr/>
          <p:nvPr/>
        </p:nvSpPr>
        <p:spPr>
          <a:xfrm>
            <a:off x="6775560" y="2814480"/>
            <a:ext cx="163440" cy="132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任意多边形 55"/>
          <p:cNvSpPr/>
          <p:nvPr/>
        </p:nvSpPr>
        <p:spPr>
          <a:xfrm>
            <a:off x="6100920" y="3068640"/>
            <a:ext cx="552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任意多边形 56"/>
          <p:cNvSpPr/>
          <p:nvPr/>
        </p:nvSpPr>
        <p:spPr>
          <a:xfrm>
            <a:off x="6499080" y="3243240"/>
            <a:ext cx="235080" cy="284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2257560"/>
            <a:ext cx="5648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字音，读通句子，难读的地方多读两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84000" y="2155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210040" y="21621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4734720" y="2206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417360" y="220680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10520" y="34210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2121840" y="344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38720" y="344664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504040" y="3446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868440" y="3471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89400" y="45687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497680" y="4560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4143240" y="45576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5241600" y="455760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6661080" y="45324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84200" y="1127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7" descr="timg.jpg"/>
          <p:cNvPicPr/>
          <p:nvPr/>
        </p:nvPicPr>
        <p:blipFill>
          <a:blip r:embed="rId3"/>
          <a:stretch/>
        </p:blipFill>
        <p:spPr>
          <a:xfrm>
            <a:off x="1714680" y="928800"/>
            <a:ext cx="1039680" cy="103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5718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刺猬）（鱼刺）（尖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00040" y="2341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643120" y="2558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观察）（警察）（察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55480" y="3484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71680" y="457200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643120" y="371484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旅行）（旅游）（旅途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643120" y="47736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离开）（分离）（离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9:37:00Z</dcterms:created>
  <dc:creator>baixiuli</dc:creator>
  <dc:description/>
  <dc:language>en-US</dc:language>
  <cp:lastModifiedBy>tw</cp:lastModifiedBy>
  <dcterms:modified xsi:type="dcterms:W3CDTF">2018-09-04T07:36:10Z</dcterms:modified>
  <cp:revision>2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